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741"/>
            </a:gs>
            <a:gs pos="100000">
              <a:srgbClr val="230fa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Untitled-1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"/>
          <p:cNvSpPr/>
          <p:nvPr/>
        </p:nvSpPr>
        <p:spPr>
          <a:xfrm>
            <a:off x="324000" y="2333520"/>
            <a:ext cx="8496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Лекция 14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Text Box 8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Д Институт права и упр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ссистент С.С.Никифор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Прямоугольник 4"/>
          <p:cNvSpPr/>
          <p:nvPr/>
        </p:nvSpPr>
        <p:spPr>
          <a:xfrm>
            <a:off x="738360" y="3105000"/>
            <a:ext cx="7995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Хранение дел в делопроизводств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При определении сроков хранения документов могут использоваться несколько видов типовых перечней: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2297160"/>
            <a:ext cx="8229600" cy="38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чень типовых управленческих документов, образующихся в деятельности организаций, с указанием сроков хран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чень документов, подлежащих приему в государственные архив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чень научно-технической документации, подлежащей приему в государственные архив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Вопросы для самопроверки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Что такое номенклатура дел?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Для чего предназначена номенклатура дел?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Что включается в номенклатуру дел?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Кем составляется номенклатура дел?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. Что в делопроизводстве подразумевается под термином "дело"?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. Из каких элементов должен состоять заголовок дел?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Рекомендуемая литература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64960"/>
            <a:ext cx="8229600" cy="56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елопроизводство (Организация и технологии документационного обеспечения управления): Учебник для студ. вузов / Т.В. Кузнецова, Л.В. Санкина, Т.А. Быкова и др.; Под ред. Т.В. Кузнецовой.—М.: ЮНИТИ-ДАНА: 2007.—359с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ялова Л.М. Номенклатура дел. Порядок составления // Справочник секретаря и офис-менеджера. 2002. № 5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елопроизводство: Учебник для студ. вузов, обуч. по спец. 350800 «Документоведение и докум. обеспечение управления» / Г.Ю. Максимович, Т.А. Быкова, Л.М. Вялова, Л.В. Санкина; Под ред. Т.В. Кузнецовой. – М.: Изд-во МЦФЭР: 2008. – 544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Белов А.А., Белов А.Н. Делопроизводство и документооборот. – М.: Кн. мир: 2008.– 340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ирсанова М.В. Курс делопроизводства : Документационное обеспечение управления / М. В. Кирсанова, Ю. М. Аксенов ; Новосиб. гос. ун-т экономики и управления, Администрация Президента РФ, Сиб. акад. гос. службы. - 6-е изд.,испр. и доп. - М. ; Новосибирск : ИНФРА-М : Сиб. соглашение,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008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 - 367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узнецов И. Н. Делопроизводство: учебно-справочное пособие / И. Н. Кузнецов. - 3-е изд., перераб. и доп. - М. : Дашков и К*,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007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 - 520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огожин М.Ю. Делопроизводство / М. Ю. Рогожин. - М. : ИндексМедиа, 2007. - 240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рганизация работы с документами. Учебник для вузов. Под ред. В.А. Кудряева. – М., 200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пивак В.А. Делопроизводство. – СПб.: Питер: 2008. – 208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тенюков М.В. Делопроизводство: Конспект лекций. – М.: ПРИОР: 2008. – 127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тенюков М.В. Документы. Делопроизводство. Практическое по­собие. – М., 200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Хрестоматия по документоведению. В 3-х частях.  Ч. 3 Сост. Н.А. Царева. Владивосток: изд-во ВГУЭС, 2005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3.  ГОСТ Р51141-98 Делопроизводство и архивное дело: Термины и определения.– М.: Издательство стандартов, 199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609F9-90CE-4A58-B896-22CDBABFC5DF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33F62-961A-47FD-8E1B-72BB8C67A80D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ый матери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просы для самопровер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комендуемая литерату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Arial"/>
              </a:rPr>
              <a:t>Номенклатура дел</a:t>
            </a:r>
            <a:endParaRPr b="0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2516040"/>
            <a:ext cx="8229600" cy="36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это утвержденный систематизированный перечень заголовков дел, заводимых в организации, с указанием сроков их хранения в установленном порядк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Стрелка вниз 3"/>
          <p:cNvSpPr/>
          <p:nvPr/>
        </p:nvSpPr>
        <p:spPr>
          <a:xfrm>
            <a:off x="3147840" y="1201680"/>
            <a:ext cx="2738520" cy="1460520"/>
          </a:xfrm>
          <a:prstGeom prst="downArrow">
            <a:avLst>
              <a:gd name="adj1" fmla="val 50000"/>
              <a:gd name="adj2" fmla="val 57056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Номенклатура дел: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274760"/>
            <a:ext cx="822960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крепляет классификацию, группировку исполненных документов в дел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крепляет систематизацию и индексацию дел, сроки их хран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лужит основным учетным документом в текущей работе с документам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является единственным средством учета переходящих дел, т. е. дел, наполнение документами которых продолжается несколько лет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ановится учетно-справочной системой для последующего поиска дел со сроками хранения до 10 лет включительн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Функции номенклатуры дел: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201320"/>
            <a:ext cx="8229600" cy="54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менклатура дел используется как схема классификации при распределении и группировке исполненных документов в дела. Заголовки дел из номенклатуры переносятся на обложки де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менклатура дел предварительно определяет сроки хранения документов, что является первым этапом экспертизы ценности документ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менклатура дел используется при построении информационно-поисковой системы по документам предприятия. Классификационная схема номенклатуры может быть использована для формирования справочной картотеки на исполненные документы. При регистрации документов в регистрационный индекс часто включают индекс дела по номенклатур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менклатура дел служит учетным документом при сдаче в архив дел со сроками хранения до 10 лет включительно. Она также является основой для составления описей на дела со сроками хранения свыше 10 лет и постоянног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менклатура имеет справочное значение при изучении структуры учреждения, организации, предприят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Arial"/>
              </a:rPr>
              <a:t>Виды номенклатуры дел:</a:t>
            </a:r>
            <a:endParaRPr b="0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20132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типовая (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тражает документы определенной категории учреждений с однотипным характером деятельности и составом документации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римерная (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является рекомендательной и создается в тех управленческих структурах, где состав документов подразделений (филиалов, цехов, кафедр) сильно различается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индивидуальная  (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о систематизированный перечень конкретных заголовков дел, намеченных к заведению в делопроизводстве одной организации или ее структурного подразделения в определенном календарном году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Основой</a:t>
            </a:r>
            <a:r>
              <a:rPr b="1" i="1" lang="ru-RU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для составления номенклатуры являются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став (положение) организации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ложения о структурных подразделениях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лассификаторы участков деятельности и кодификаторы структурных подразделений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татные расписания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ланы и отчеты о работе организации и ее структурных подразделений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менклатуры организации за прошлые годы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иси дел постоянного хранения, временного хранения и по личному составу, акты о выделении документов и дел к уничтожению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иповые и примерные номенклатуры дел данной системы (при их наличии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шения Государственной архивной службы России и территориальных архивных органов об изменении сроков хранения тех или иных категорий документо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Разделы номенклатуры дел: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128240"/>
            <a:ext cx="8229600" cy="529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качестве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первой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рафы номенклатуры указывают наименования структурных подразделений (отделов), их индексы (номера) включаются в номенклатуру и, дополненные порядковым номером дела в пределах подразделения, составляют индекс дела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о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второй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графе номенклатуры указываются полные заголовки дел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Третья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графа номенклатуры заполняется в конце года. Каждое дело не должно превышать 250 листов, поэтому при большом объеме документов, относящихся к одному делу, допускается формирование томов, часте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четвертой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графе номенклатуры проставляются сроки хранения дел, определенные экспертной комиссие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Пятая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графа номенклатуры дел «Примечание» заполняется в течение срока действия номенклатуры службой ДОУ, в ней проставляются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тметки о заведении дел - «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заведено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»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 переходящих делах - «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ереходящее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 2001 г.» или «переходящее на 2003 г.»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 передаче дел в другую организацию - «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кт выдачи во временное пользование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от_№_»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 местонахождении подлинников документов - «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длинники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деле 01-02»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 передаче дел в ведомственный архив - «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ереданы в архив по описи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07.03.2002» и т.п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Срок действия номенклатуры дел: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092240"/>
            <a:ext cx="8229600" cy="57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твержденная номенклатура дел организации вводится в действие с начала следующего делопроизводственного года и действует в течение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5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ет. Она подлежит внеплановому пересоставлению и переутверждению лишь в случаях коренного изменения функций и структуры организации (или ее структурного подразделения). При отсутствии таких изменений номенклатуру дел в конце каждого года уточняют, при необходимости корректируют и автоматически вводят в действие автоматическ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Loner-XP</cp:lastModifiedBy>
  <dcterms:modified xsi:type="dcterms:W3CDTF">2010-05-14T03:06:18Z</dcterms:modified>
  <cp:revision>137</cp:revision>
  <dc:subject/>
  <dc:title>Lecture Template </dc:title>
</cp:coreProperties>
</file>